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0E4-D691-4A8D-8AE8-2E99D9B2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C63-BE7A-4992-A7B5-ABECEC5F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6E9-4E67-4156-B7B1-9DF7EF49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4E6-141D-4642-BE58-250B4CF7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07BF-7F02-488E-92AF-7B69AC8A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7842-7BAC-419B-BF8B-0ED3958C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4BFC-5929-4E38-A84E-EEC59AFF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7702-2E70-41A9-8FFE-BF952AC2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2E59-FD56-48CD-9035-522D932A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7380-7B84-47AE-981F-95E7EC5F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7D70-D1B0-405B-B0E1-6091E66A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59E-9F4A-42CB-9B7B-2161A0DC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6E30-B5C8-4C25-B5F3-9E770918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BBF5-ECDB-479C-9FBF-4E10290C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F140-AA1C-4907-80C5-893657C2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061E-2B87-424A-AE78-4D52B3F8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9AFE-B5DD-469D-8112-264134F4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ACD-5E27-437D-9DDB-67E34B41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8655-902F-4E16-B4CA-7CE652A1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52A-DAA2-47F2-88E8-9F71E462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4B2-0568-4992-8917-03A4A55F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429-B6CF-4FD1-BDDA-894583A8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3FE-8C47-4E4B-8259-CC3A53A9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2F5-690C-4403-A6CC-09A2DDC3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7E1F-7F5B-45F9-8C2F-A4ED8D86C5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2293-6764-4634-AAC4-C5D17356A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9320" y="333360"/>
            <a:ext cx="76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awyren yr awyrlu yn teithio dros wlad ryfelg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9080" y="1125360"/>
            <a:ext cx="83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r mwyn bod yn saff, rhaid teithio ar lwybr sydd yn u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anner ffordd rhwng y ddwy dref A a 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040" y="573408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a lwybr rhaid i’r awyren deithi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504160" y="2205000"/>
            <a:ext cx="627840" cy="581400"/>
            <a:chOff x="2504160" y="2205000"/>
            <a:chExt cx="627840" cy="581400"/>
          </a:xfrm>
        </p:grpSpPr>
        <p:sp>
          <p:nvSpPr>
            <p:cNvPr id="86" name=""/>
            <p:cNvSpPr/>
            <p:nvPr/>
          </p:nvSpPr>
          <p:spPr>
            <a:xfrm>
              <a:off x="2916360" y="2278080"/>
              <a:ext cx="215640" cy="21600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04160" y="2205000"/>
              <a:ext cx="44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435640" y="5157720"/>
            <a:ext cx="587520" cy="581400"/>
            <a:chOff x="5435640" y="5157720"/>
            <a:chExt cx="587520" cy="581400"/>
          </a:xfrm>
        </p:grpSpPr>
        <p:sp>
          <p:nvSpPr>
            <p:cNvPr id="89" name=""/>
            <p:cNvSpPr/>
            <p:nvPr/>
          </p:nvSpPr>
          <p:spPr>
            <a:xfrm>
              <a:off x="5435640" y="5157720"/>
              <a:ext cx="216000" cy="215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77120" y="5157720"/>
              <a:ext cx="44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27640" y="2060640"/>
            <a:ext cx="10810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896000">
            <a:off x="4572000" y="2924280"/>
            <a:ext cx="289080" cy="287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831960" cy="676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732720" y="2852640"/>
            <a:ext cx="8316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61320" y="1454400"/>
            <a:ext cx="4416480" cy="284904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985400" y="1261800"/>
            <a:ext cx="5354640" cy="3478320"/>
            <a:chOff x="1985400" y="1261800"/>
            <a:chExt cx="5354640" cy="3478320"/>
          </a:xfrm>
        </p:grpSpPr>
        <p:grpSp>
          <p:nvGrpSpPr>
            <p:cNvPr id="97" name=""/>
            <p:cNvGrpSpPr/>
            <p:nvPr/>
          </p:nvGrpSpPr>
          <p:grpSpPr>
            <a:xfrm>
              <a:off x="1985400" y="1261800"/>
              <a:ext cx="641160" cy="602640"/>
              <a:chOff x="1985400" y="1261800"/>
              <a:chExt cx="641160" cy="602640"/>
            </a:xfrm>
          </p:grpSpPr>
          <p:sp>
            <p:nvSpPr>
              <p:cNvPr id="98" name=""/>
              <p:cNvSpPr/>
              <p:nvPr/>
            </p:nvSpPr>
            <p:spPr>
              <a:xfrm rot="21427800">
                <a:off x="2405520" y="1330560"/>
                <a:ext cx="215640" cy="21600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1427800">
                <a:off x="1999440" y="1272240"/>
                <a:ext cx="441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709320" y="4125960"/>
              <a:ext cx="630720" cy="614160"/>
              <a:chOff x="6709320" y="4125960"/>
              <a:chExt cx="630720" cy="614160"/>
            </a:xfrm>
          </p:grpSpPr>
          <p:sp>
            <p:nvSpPr>
              <p:cNvPr id="101" name=""/>
              <p:cNvSpPr/>
              <p:nvPr/>
            </p:nvSpPr>
            <p:spPr>
              <a:xfrm rot="21334200">
                <a:off x="6717240" y="4162320"/>
                <a:ext cx="216000" cy="215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1334200">
                <a:off x="6872040" y="4142160"/>
                <a:ext cx="44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987640" y="2349360"/>
            <a:ext cx="831960" cy="67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5796000" y="549360"/>
            <a:ext cx="831960" cy="677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003640" y="1700280"/>
            <a:ext cx="831960" cy="677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3635280" y="3789360"/>
            <a:ext cx="831960" cy="677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51280" y="1268280"/>
            <a:ext cx="6049800" cy="60501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468360" y="-1611360"/>
            <a:ext cx="6050160" cy="6050160"/>
          </a:xfrm>
          <a:prstGeom prst="ellips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5055840"/>
            <a:ext cx="2615400" cy="1161720"/>
            <a:chOff x="539640" y="5055840"/>
            <a:chExt cx="2615400" cy="1161720"/>
          </a:xfrm>
        </p:grpSpPr>
        <p:sp>
          <p:nvSpPr>
            <p:cNvPr id="110" name=""/>
            <p:cNvSpPr/>
            <p:nvPr/>
          </p:nvSpPr>
          <p:spPr>
            <a:xfrm rot="3999000">
              <a:off x="2367360" y="498384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9640" y="5300640"/>
              <a:ext cx="1800000" cy="916920"/>
            </a:xfrm>
            <a:prstGeom prst="rect">
              <a:avLst/>
            </a:prstGeom>
            <a:solidFill>
              <a:srgbClr val="9933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Dyma’r hanerydd perpendicw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3121200" y="976680"/>
            <a:ext cx="2830320" cy="4257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52:54Z</dcterms:created>
  <dc:creator>Carwyn</dc:creator>
  <dc:description/>
  <dc:language>en-US</dc:language>
  <cp:lastModifiedBy>Carwyn</cp:lastModifiedBy>
  <dcterms:modified xsi:type="dcterms:W3CDTF">2009-07-06T21:00:46Z</dcterms:modified>
  <cp:revision>11</cp:revision>
  <dc:subject/>
  <dc:title>Slide 1</dc:title>
</cp:coreProperties>
</file>